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6B74-8BA1-43D0-B31D-45FD2DF8E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CFB3-E679-4085-80C4-1078F6A4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7E01-E857-4187-8E22-FA2CF5AB2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4416-6E8D-4CAB-9F7E-4CAFDBCA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32AE-CA98-4437-9BF1-63CE64D5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B0DF-4F9A-434B-996C-47B84372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AEAC-5AA2-4CC7-B3A7-BEB826A8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A72C-2435-4187-8E85-AD35598C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B0FB-810A-4283-B97C-328FD59A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38C6-CED7-44BF-93F7-801BF28C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67C7-7D4F-4B90-8738-EA5FD33F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69EC-8E04-4DFE-871D-D0354288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BE4A-BF82-4560-827E-96FE4B0BE0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оектирование программы по обществознанию в 8 классе с включением заданий по финансовой грамотности в формате 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PIS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372440" y="4309920"/>
            <a:ext cx="42796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улова Елена Андре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ОУ «Ергачинская СОШ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нгурский М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Объект 3" descr=""/>
          <p:cNvPicPr/>
          <p:nvPr/>
        </p:nvPicPr>
        <p:blipFill>
          <a:blip r:embed="rId1"/>
          <a:srcRect l="3521" t="9906" r="9140" b="4006"/>
          <a:stretch/>
        </p:blipFill>
        <p:spPr>
          <a:xfrm>
            <a:off x="3962520" y="1754280"/>
            <a:ext cx="7940520" cy="423540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716040" y="2073240"/>
            <a:ext cx="2728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есплат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ыстр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добн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rcRect l="10002" t="12119" r="6250" b="2881"/>
          <a:stretch/>
        </p:blipFill>
        <p:spPr>
          <a:xfrm>
            <a:off x="1486080" y="1504800"/>
            <a:ext cx="921996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684360" y="1690560"/>
            <a:ext cx="104868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76560" y="365040"/>
            <a:ext cx="71722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я по финансовой грамотности (</a:t>
            </a: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PISA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455760" y="733320"/>
            <a:ext cx="4213080" cy="2481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"/>
          <p:cNvPicPr/>
          <p:nvPr/>
        </p:nvPicPr>
        <p:blipFill>
          <a:blip r:embed="rId2"/>
          <a:stretch/>
        </p:blipFill>
        <p:spPr>
          <a:xfrm>
            <a:off x="5486400" y="1690560"/>
            <a:ext cx="5197320" cy="20066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"/>
          <p:cNvPicPr/>
          <p:nvPr/>
        </p:nvPicPr>
        <p:blipFill>
          <a:blip r:embed="rId3"/>
          <a:stretch/>
        </p:blipFill>
        <p:spPr>
          <a:xfrm>
            <a:off x="808200" y="3475080"/>
            <a:ext cx="100314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98360" y="182520"/>
          <a:ext cx="11781000" cy="6492960"/>
        </p:xfrm>
        <a:graphic>
          <a:graphicData uri="http://schemas.openxmlformats.org/drawingml/2006/table">
            <a:tbl>
              <a:tblPr/>
              <a:tblGrid>
                <a:gridCol w="5891400"/>
                <a:gridCol w="5889600"/>
              </a:tblGrid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а в рабочей программ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анк заданий «Финансовая грамот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166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ка — основа жизнедеятельности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. «Планшет или ноутбу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ыночн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. Как защититься от интернет-мошенников в интерн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нансов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. «Нужен ли кредит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. «Карта Ю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ашнее хозяй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. «Дачные проблемы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ческие цели и  функции государ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. «Налог на новую квартиру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1560" y="1224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Дачные проблемы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441360" y="1193760"/>
            <a:ext cx="1111104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ужен ли кредит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655560" y="1825560"/>
            <a:ext cx="1069812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алог на новую квартиру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1127160" y="1444680"/>
            <a:ext cx="1000440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15:26Z</dcterms:created>
  <dc:creator>User</dc:creator>
  <dc:description/>
  <dc:language>en-US</dc:language>
  <cp:lastModifiedBy>User</cp:lastModifiedBy>
  <dcterms:modified xsi:type="dcterms:W3CDTF">2022-11-28T04:43:17Z</dcterms:modified>
  <cp:revision>10</cp:revision>
  <dc:subject/>
  <dc:title>Презентация PowerPoint</dc:title>
</cp:coreProperties>
</file>